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F2491-4BD1-4BA8-8CAE-3B161FEE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289F0-CE46-4CE9-A4D5-9A3E1F94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9F3FA-7A44-4956-8683-ADC99189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9F9DB-62B6-478F-B629-CFF6DF34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AFDA4-65E4-4AE8-BACE-C3A09A46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1D283-0F24-4570-85AB-B340D323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CE887-FC9B-460A-AE1F-377A8816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12B77-A9A7-4136-9A31-13B019CD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CE43E-4FD3-43AD-B8AC-689EE14E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620E1-1B80-4675-AF80-BC393615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8675D-3866-4E19-AAC3-B08498A0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7BDDB-51F8-4869-84C9-25936A13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E86A-E5AE-4F03-8BDE-07DD6EBF587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riving the quant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Use of assembly, count located assembly that refer to same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1523880"/>
            <a:ext cx="5181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iece Design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74320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ken from flavors fi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f profile defined explicitly, need a convention for storing nam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Material is inherited from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structural_frame_product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into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 assembly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or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5800" y="20574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574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Associate variables of defining a KISS lab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labor Ty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Issues of 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2120" y="1828800"/>
          <a:ext cx="7162560" cy="44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16256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1905120"/>
          <a:ext cx="8534160" cy="35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133720"/>
          <a:ext cx="7848360" cy="39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784836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66680" y="2362320"/>
          <a:ext cx="6858000" cy="20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6858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" y="-5119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-3389400"/>
            <a:ext cx="6041880" cy="2293920"/>
            <a:chOff x="-1440" y="-3389400"/>
            <a:chExt cx="6041880" cy="2293920"/>
          </a:xfrm>
        </p:grpSpPr>
        <p:grpSp>
          <p:nvGrpSpPr>
            <p:cNvPr id="148" name=""/>
            <p:cNvGrpSpPr/>
            <p:nvPr/>
          </p:nvGrpSpPr>
          <p:grpSpPr>
            <a:xfrm>
              <a:off x="3240" y="-3384720"/>
              <a:ext cx="6032520" cy="2284200"/>
              <a:chOff x="3240" y="-3384720"/>
              <a:chExt cx="6032520" cy="22842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240" y="-3384720"/>
                <a:ext cx="2011320" cy="822240"/>
                <a:chOff x="3240" y="-3384720"/>
                <a:chExt cx="2011320" cy="822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640" y="-338472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ile ID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-338472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014560" y="-3384720"/>
                <a:ext cx="844560" cy="822240"/>
                <a:chOff x="2014560" y="-3384720"/>
                <a:chExt cx="844560" cy="822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082960" y="-338472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014560" y="-338472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859120" y="-3384720"/>
                <a:ext cx="3176640" cy="822240"/>
                <a:chOff x="2859120" y="-3384720"/>
                <a:chExt cx="3176640" cy="822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927520" y="-338472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dentifies file format, KISS version, application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59120" y="-338472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240" y="-2562480"/>
                <a:ext cx="2011320" cy="822240"/>
                <a:chOff x="3240" y="-2562480"/>
                <a:chExt cx="2011320" cy="8222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1640" y="-256248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eader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40" y="-256248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14560" y="-2562480"/>
                <a:ext cx="844560" cy="822240"/>
                <a:chOff x="2014560" y="-2562480"/>
                <a:chExt cx="844560" cy="822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82960" y="-256248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14560" y="-256248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9120" y="-2562480"/>
                <a:ext cx="3176640" cy="822240"/>
                <a:chOff x="2859120" y="-2562480"/>
                <a:chExt cx="3176640" cy="822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927520" y="-256248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Job #, name customer, date, time, units,type of bill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59120" y="-256248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40" y="-1740240"/>
                <a:ext cx="2011320" cy="639720"/>
                <a:chOff x="3240" y="-1740240"/>
                <a:chExt cx="2011320" cy="639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640" y="-174024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" y="-174024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14560" y="-1740240"/>
                <a:ext cx="844560" cy="639720"/>
                <a:chOff x="2014560" y="-1740240"/>
                <a:chExt cx="844560" cy="639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82960" y="-1740240"/>
                  <a:ext cx="707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14560" y="-1740240"/>
                  <a:ext cx="844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59120" y="-1740240"/>
                <a:ext cx="3176640" cy="639720"/>
                <a:chOff x="2859120" y="-1740240"/>
                <a:chExt cx="3176640" cy="639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27520" y="-1740240"/>
                  <a:ext cx="3039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Names and address, contact info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59120" y="-1740240"/>
                  <a:ext cx="3176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-1440" y="-3389400"/>
              <a:ext cx="6041880" cy="229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" y="-109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eated Sections where Main Piece is listed , flowed by sub-pieces and associated labor, sequence and fabrication dat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10790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39800" y="157320"/>
          <a:ext cx="5846760" cy="688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9800" y="157320"/>
                    <a:ext cx="5846760" cy="68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2568600"/>
          <a:ext cx="83818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6860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op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76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752480"/>
          <a:ext cx="8690040" cy="43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690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 rot="5400000">
            <a:off x="2209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3352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 camber labor that applies to a pie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295280"/>
          <a:ext cx="731520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7315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rot="18930000">
            <a:off x="6629040" y="4038120"/>
            <a:ext cx="38088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8930000">
            <a:off x="5486400" y="396216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Burn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Definition of Size 1 and Size 2 are similar to Ho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Note field should refer to restricted cutting typ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Flame cu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33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80880" y="2819520"/>
          <a:ext cx="83059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8305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rot="13519200">
            <a:off x="8534160" y="419040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990720"/>
          <a:ext cx="7086600" cy="53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0866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162920" y="4572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886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ize 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3520" y="1295280"/>
          <a:ext cx="739116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73911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3097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3733920"/>
          <a:ext cx="769608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733920"/>
                    <a:ext cx="7696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quivalent Structures to CIS/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ata Flow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Header Insta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eplicates information with a STEP file h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143000"/>
            <a:ext cx="5333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rawing re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iece and ship mar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STM Grade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ngth of pie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ish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signation of Main Part in an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Consider using a note ‘main’ in an attribute fiel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00800" y="563868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revision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Draw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Mapping a Drawing No. and a Drawing revision  No.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057400"/>
          <a:ext cx="7391520" cy="35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73915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400800" y="4267080"/>
            <a:ext cx="1676520" cy="3049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548640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4572000"/>
            <a:ext cx="1676520" cy="9144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886200"/>
            <a:ext cx="106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858000" y="411444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Shipmark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ipma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Shipmark 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25146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H="1" flipV="1">
            <a:off x="3581280" y="4114440"/>
            <a:ext cx="190512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410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r quantity, count references to same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90720" y="4571640"/>
            <a:ext cx="137160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in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Piecemark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iecemark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Piecemark in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2514600"/>
          <a:ext cx="5486400" cy="39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5486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Administrator</cp:lastModifiedBy>
  <cp:lastPrinted>2001-11-12T21:18:27Z</cp:lastPrinted>
  <dcterms:modified xsi:type="dcterms:W3CDTF">2001-11-12T21:50:09Z</dcterms:modified>
  <cp:revision>27</cp:revision>
  <dc:subject/>
  <dc:title>No Slide Title</dc:title>
</cp:coreProperties>
</file>